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6"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1"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5"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7"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8"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3"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5"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6"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7"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8"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9"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0"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4"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9"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3"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5"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6"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1"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3"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4"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5"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6"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7"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8"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8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5"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9"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1"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2"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7"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9"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0"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1"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2"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3"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4"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5"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9"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1"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2"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7"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9"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0"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1"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74"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12"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6020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51520" indent="-4345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424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50"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88"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13"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25"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63"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hocking statistics OR story that takes the reader back into a situation where he needs your solution. Can go over multiple slides.</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Gill Sans"/>
              </a:rPr>
              <a:t>(Example: “You know the feeling... You see a beautiful woman online. Maybe in a Facebook photo album. Maybe you accidentally stumbled upon her profile.  And you think, ‘Wow, I NEED to get to know this girl’.”)</a:t>
            </a:r>
            <a:endParaRPr b="0" lang="en-US" sz="42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tart introducing the benefits of the system (“Here’s how this system gives you an unfair advantage over XYZ”)</a:t>
            </a:r>
            <a:endParaRPr b="0" lang="en-US" sz="42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marL="507960" indent="-507960">
              <a:lnSpc>
                <a:spcPct val="100000"/>
              </a:lnSpc>
              <a:spcBef>
                <a:spcPts val="2401"/>
              </a:spcBef>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general bullets...</a:t>
            </a:r>
            <a:endParaRPr b="0" lang="en-US" sz="4200" spc="-1" strike="noStrike">
              <a:solidFill>
                <a:srgbClr val="000000"/>
              </a:solidFill>
              <a:latin typeface="Gill Sans"/>
            </a:endParaRPr>
          </a:p>
          <a:p>
            <a:pPr marL="507960" indent="-507960">
              <a:lnSpc>
                <a:spcPct val="100000"/>
              </a:lnSpc>
              <a:spcBef>
                <a:spcPts val="2401"/>
              </a:spcBef>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with benefits of the system...</a:t>
            </a:r>
            <a:endParaRPr b="0" lang="en-US" sz="4200" spc="-1" strike="noStrike">
              <a:solidFill>
                <a:srgbClr val="000000"/>
              </a:solidFill>
              <a:latin typeface="Gill Sans"/>
            </a:endParaRPr>
          </a:p>
          <a:p>
            <a:pPr marL="507960" indent="-507960">
              <a:lnSpc>
                <a:spcPct val="100000"/>
              </a:lnSpc>
              <a:spcBef>
                <a:spcPts val="2401"/>
              </a:spcBef>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s a whole</a:t>
            </a:r>
            <a:endParaRPr b="0" lang="en-US" sz="42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MT Bold"/>
                <a:ea typeface="Gill Sans MT Bold"/>
              </a:rPr>
              <a:t>In particular, you’ll learn...</a:t>
            </a:r>
            <a:endParaRPr b="0" lang="en-US" sz="4200" spc="-1" strike="noStrike">
              <a:solidFill>
                <a:srgbClr val="000000"/>
              </a:solidFill>
              <a:latin typeface="Gill Sans"/>
            </a:endParaRPr>
          </a:p>
          <a:p>
            <a:pPr>
              <a:lnSpc>
                <a:spcPct val="100000"/>
              </a:lnSpc>
              <a:spcBef>
                <a:spcPts val="2401"/>
              </a:spcBef>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pecific thing #1 (page XYZ)</a:t>
            </a:r>
            <a:endParaRPr b="0" lang="en-US" sz="4200" spc="-1" strike="noStrike">
              <a:solidFill>
                <a:srgbClr val="000000"/>
              </a:solidFill>
              <a:latin typeface="Gill Sans"/>
            </a:endParaRPr>
          </a:p>
          <a:p>
            <a:pPr>
              <a:lnSpc>
                <a:spcPct val="100000"/>
              </a:lnSpc>
              <a:spcBef>
                <a:spcPts val="2401"/>
              </a:spcBef>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nother teaser (page YZX)</a:t>
            </a:r>
            <a:endParaRPr b="0" lang="en-US" sz="4200" spc="-1" strike="noStrike">
              <a:solidFill>
                <a:srgbClr val="000000"/>
              </a:solidFill>
              <a:latin typeface="Gill Sans"/>
            </a:endParaRPr>
          </a:p>
          <a:p>
            <a:pPr>
              <a:lnSpc>
                <a:spcPct val="100000"/>
              </a:lnSpc>
              <a:spcBef>
                <a:spcPts val="2401"/>
              </a:spcBef>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lso add in afterthoughts like... and it’s not what you think! (page ZYX)</a:t>
            </a:r>
            <a:endParaRPr b="0" lang="en-US" sz="4200" spc="-1" strike="noStrike">
              <a:solidFill>
                <a:srgbClr val="000000"/>
              </a:solidFill>
              <a:latin typeface="Gill Sans"/>
            </a:endParaRPr>
          </a:p>
          <a:p>
            <a:pPr>
              <a:lnSpc>
                <a:spcPct val="100000"/>
              </a:lnSpc>
              <a:spcBef>
                <a:spcPts val="2401"/>
              </a:spcBef>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an go over multiple pages (and should)</a:t>
            </a:r>
            <a:endParaRPr b="0" lang="en-US" sz="42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nd that’s just a tiny fraction of what you’ll learn.</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nd the best thing is that you can download this system and get started right away.</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1269720" y="114120"/>
            <a:ext cx="10464840" cy="7645320"/>
          </a:xfrm>
          <a:prstGeom prst="rect">
            <a:avLst/>
          </a:prstGeom>
          <a:noFill/>
          <a:ln w="0">
            <a:noFill/>
          </a:ln>
        </p:spPr>
        <p:txBody>
          <a:bodyPr lIns="50760" rIns="50760" tIns="50760" bIns="50760" anchor="ctr">
            <a:normAutofit/>
          </a:bodyPr>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100" spc="-1" strike="noStrike">
                <a:solidFill>
                  <a:srgbClr val="000000"/>
                </a:solidFill>
                <a:latin typeface="Gill Sans MT Bold"/>
                <a:ea typeface="Gill Sans MT Bold"/>
              </a:rPr>
              <a:t>Click the Orange Button Below!</a:t>
            </a:r>
            <a:endParaRPr b="0" lang="en-US" sz="7100" spc="-1" strike="noStrike">
              <a:solidFill>
                <a:srgbClr val="000000"/>
              </a:solidFill>
              <a:latin typeface="Gill Sans"/>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Gill Sans"/>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Gill Sans"/>
            </a:endParaRPr>
          </a:p>
        </p:txBody>
      </p:sp>
      <p:sp>
        <p:nvSpPr>
          <p:cNvPr id="540" name=""/>
          <p:cNvSpPr/>
          <p:nvPr/>
        </p:nvSpPr>
        <p:spPr>
          <a:xfrm flipH="1" rot="10800000">
            <a:off x="87840" y="2959200"/>
            <a:ext cx="12827160" cy="6146640"/>
          </a:xfrm>
          <a:prstGeom prst="pie">
            <a:avLst/>
          </a:prstGeom>
          <a:solidFill>
            <a:srgbClr val="ff560d"/>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f applicable, introduce any bonuses. Example: “To make this a total no-brainer for you, I’ve added this bonus that you’ll get for free if you buy now”</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1269720" y="1155240"/>
            <a:ext cx="10464840" cy="8255160"/>
          </a:xfrm>
          <a:prstGeom prst="rect">
            <a:avLst/>
          </a:prstGeom>
          <a:noFill/>
          <a:ln w="0">
            <a:noFill/>
          </a:ln>
        </p:spPr>
        <p:txBody>
          <a:bodyPr lIns="50760" rIns="50760" tIns="50760" bIns="50760" anchor="ctr">
            <a:normAutofit/>
          </a:bodyPr>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Value: $49.99</a:t>
            </a:r>
            <a:br>
              <a:rPr sz="4200"/>
            </a:br>
            <a:r>
              <a:rPr b="0" i="1" lang="en-US" sz="4200" spc="-1" strike="noStrike">
                <a:solidFill>
                  <a:srgbClr val="000000"/>
                </a:solidFill>
                <a:latin typeface="Gill Sans"/>
              </a:rPr>
              <a:t>You Get It As A </a:t>
            </a:r>
            <a:r>
              <a:rPr b="1" i="1" lang="en-US" sz="4200" spc="-1" strike="noStrike">
                <a:solidFill>
                  <a:srgbClr val="000000"/>
                </a:solidFill>
                <a:latin typeface="Gill Sans"/>
              </a:rPr>
              <a:t>FREE GIFT</a:t>
            </a:r>
            <a:endParaRPr b="0" lang="en-US" sz="4200" spc="-1" strike="noStrike">
              <a:solidFill>
                <a:srgbClr val="000000"/>
              </a:solidFill>
              <a:latin typeface="Gill Sans"/>
            </a:endParaRPr>
          </a:p>
        </p:txBody>
      </p:sp>
      <p:pic>
        <p:nvPicPr>
          <p:cNvPr id="543" name="" descr=""/>
          <p:cNvPicPr/>
          <p:nvPr/>
        </p:nvPicPr>
        <p:blipFill>
          <a:blip r:embed="rId1"/>
          <a:stretch/>
        </p:blipFill>
        <p:spPr>
          <a:xfrm>
            <a:off x="3949560" y="784080"/>
            <a:ext cx="5092920" cy="69897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n this special bonus I reveal for the first time:</a:t>
            </a:r>
            <a:endParaRPr b="0" lang="en-US" sz="4200" spc="-1" strike="noStrike">
              <a:solidFill>
                <a:srgbClr val="000000"/>
              </a:solidFill>
              <a:latin typeface="Gill Sans"/>
            </a:endParaRPr>
          </a:p>
          <a:p>
            <a:pPr>
              <a:lnSpc>
                <a:spcPct val="100000"/>
              </a:lnSpc>
              <a:spcBef>
                <a:spcPts val="2401"/>
              </a:spcBef>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more content teaser bullets</a:t>
            </a:r>
            <a:endParaRPr b="0" lang="en-US" sz="4200" spc="-1" strike="noStrike">
              <a:solidFill>
                <a:srgbClr val="000000"/>
              </a:solidFill>
              <a:latin typeface="Gill Sans"/>
            </a:endParaRPr>
          </a:p>
          <a:p>
            <a:pPr>
              <a:lnSpc>
                <a:spcPct val="100000"/>
              </a:lnSpc>
              <a:spcBef>
                <a:spcPts val="2401"/>
              </a:spcBef>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just like before with the main product</a:t>
            </a:r>
            <a:endParaRPr b="0" lang="en-US" sz="42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what the benefits will be of having this bonus and applying it (can be over 1-2 slides)</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Gill Sans"/>
              </a:rPr>
              <a:t>The best thing is:</a:t>
            </a:r>
            <a:endParaRPr b="0" lang="en-US" sz="41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Gill Sans"/>
              </a:rPr>
              <a:t>others have paid me up to $XXX to get their hands around this.</a:t>
            </a:r>
            <a:endParaRPr b="0" lang="en-US" sz="41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Gill Sans"/>
              </a:rPr>
              <a:t>But you get it as a</a:t>
            </a:r>
            <a:r>
              <a:rPr b="1" lang="en-US" sz="4100" spc="-1" strike="noStrike">
                <a:solidFill>
                  <a:srgbClr val="000000"/>
                </a:solidFill>
                <a:latin typeface="Gill Sans"/>
              </a:rPr>
              <a:t> free gift</a:t>
            </a:r>
            <a:r>
              <a:rPr b="0" lang="en-US" sz="4100" spc="-1" strike="noStrike">
                <a:solidFill>
                  <a:srgbClr val="000000"/>
                </a:solidFill>
                <a:latin typeface="Gill Sans"/>
              </a:rPr>
              <a:t>... simply as my way of saying “Thank You” for buying my [MainProduct]</a:t>
            </a:r>
            <a:endParaRPr b="0" lang="en-US" sz="41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Explain why this problem happens.</a:t>
            </a:r>
            <a:br>
              <a:rPr sz="4200"/>
            </a:br>
            <a:r>
              <a:rPr b="0" lang="en-US" sz="4200" spc="-1" strike="noStrike">
                <a:solidFill>
                  <a:srgbClr val="000000"/>
                </a:solidFill>
                <a:latin typeface="Gill Sans"/>
              </a:rPr>
              <a:t>Also a good place to add in why it’s not their fault (“And you know what? It’s not your fault!” + explain why on the next slide)</a:t>
            </a:r>
            <a:endParaRPr b="0" lang="en-US" sz="42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Gill Sans"/>
              </a:rPr>
              <a:t>To save $xxx and secure this special free gift in addition to my [MainProduct], click the orange button below now</a:t>
            </a:r>
            <a:endParaRPr b="0" lang="en-US" sz="41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1269720" y="114120"/>
            <a:ext cx="10464840" cy="7645320"/>
          </a:xfrm>
          <a:prstGeom prst="rect">
            <a:avLst/>
          </a:prstGeom>
          <a:noFill/>
          <a:ln w="0">
            <a:noFill/>
          </a:ln>
        </p:spPr>
        <p:txBody>
          <a:bodyPr lIns="50760" rIns="50760" tIns="50760" bIns="50760" anchor="ctr">
            <a:normAutofit/>
          </a:bodyPr>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100" spc="-1" strike="noStrike">
                <a:solidFill>
                  <a:srgbClr val="000000"/>
                </a:solidFill>
                <a:latin typeface="Gill Sans MT Bold"/>
                <a:ea typeface="Gill Sans MT Bold"/>
              </a:rPr>
              <a:t>Click the Orange</a:t>
            </a:r>
            <a:br>
              <a:rPr sz="7100"/>
            </a:br>
            <a:r>
              <a:rPr b="0" lang="en-US" sz="7100" spc="-1" strike="noStrike">
                <a:solidFill>
                  <a:srgbClr val="000000"/>
                </a:solidFill>
                <a:latin typeface="Gill Sans MT Bold"/>
                <a:ea typeface="Gill Sans MT Bold"/>
              </a:rPr>
              <a:t>Button Below!</a:t>
            </a:r>
            <a:endParaRPr b="0" lang="en-US" sz="7100" spc="-1" strike="noStrike">
              <a:solidFill>
                <a:srgbClr val="000000"/>
              </a:solidFill>
              <a:latin typeface="Gill Sans"/>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Gill Sans"/>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Gill Sans"/>
            </a:endParaRPr>
          </a:p>
        </p:txBody>
      </p:sp>
      <p:sp>
        <p:nvSpPr>
          <p:cNvPr id="549" name=""/>
          <p:cNvSpPr/>
          <p:nvPr/>
        </p:nvSpPr>
        <p:spPr>
          <a:xfrm flipH="1" rot="10800000">
            <a:off x="87840" y="2959200"/>
            <a:ext cx="12827160" cy="6146640"/>
          </a:xfrm>
          <a:prstGeom prst="pie">
            <a:avLst/>
          </a:prstGeom>
          <a:solidFill>
            <a:srgbClr val="ff560d"/>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Why does this system work?</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s system hasn’t only changed my own [dating life], but also that of many others around the globe</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ese other people are just like you</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ere are just a couple of the emails I receive from people around the world who have not only read my system but who have actually </a:t>
            </a:r>
            <a:r>
              <a:rPr b="0" lang="en-US" sz="4200" spc="-1" strike="noStrike" u="sng">
                <a:solidFill>
                  <a:srgbClr val="000000"/>
                </a:solidFill>
                <a:uFillTx/>
                <a:latin typeface="Gill Sans"/>
              </a:rPr>
              <a:t>applied</a:t>
            </a:r>
            <a:r>
              <a:rPr b="0" lang="en-US" sz="4200" spc="-1" strike="noStrike">
                <a:solidFill>
                  <a:srgbClr val="000000"/>
                </a:solidFill>
                <a:latin typeface="Gill Sans"/>
              </a:rPr>
              <a:t> it</a:t>
            </a:r>
            <a:endParaRPr b="0" lang="en-US" sz="42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fontScale="93000"/>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how testimonials.</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f video, play the video.</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f text, then ideally take a screenshot of the email they sent you (it looks more convincing if people can see the testimonial in your GMail inbox than if it’s just text in your presentation. It’s harder to fake a screenshot than to write something untrue in a Keynote/Powerpoint document).</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One testimonial per slide, no more than 7 total.</a:t>
            </a:r>
            <a:endParaRPr b="0" lang="en-US" sz="42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deally, each testimonial addresses one of the most common objections that people have (e.g. “I have no skill”, “I’m not good looking”, “I’ve already read other stuff about this topic and don’t need this anymore” etc.). If you don’t have testimonials like that, don’t worry. Use what you have. It’ll still work fine.</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t>
            </a:r>
            <a:r>
              <a:rPr b="0" lang="en-US" sz="4200" spc="-1" strike="noStrike">
                <a:solidFill>
                  <a:srgbClr val="000000"/>
                </a:solidFill>
                <a:latin typeface="Gill Sans"/>
              </a:rPr>
              <a:t>so that’s the PROOF that this system really works”</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t>
            </a:r>
            <a:r>
              <a:rPr b="0" lang="en-US" sz="4200" spc="-1" strike="noStrike">
                <a:solidFill>
                  <a:srgbClr val="000000"/>
                </a:solidFill>
                <a:latin typeface="Gill Sans"/>
              </a:rPr>
              <a:t>but there’s more”</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t>
            </a:r>
            <a:r>
              <a:rPr b="0" lang="en-US" sz="4200" spc="-1" strike="noStrike">
                <a:solidFill>
                  <a:srgbClr val="000000"/>
                </a:solidFill>
                <a:latin typeface="Gill Sans"/>
              </a:rPr>
              <a:t>I’m so convinced that this system will give you the results you want, I’m willing to take all the risk for you and give you the system with a full 60-day no-questions-asked guarantee”</a:t>
            </a:r>
            <a:endParaRPr b="0" lang="en-US" sz="4200" spc="-1" strike="noStrike">
              <a:solidFill>
                <a:srgbClr val="000000"/>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explain the guarantee: if, for whatever reason, they don’t get the results that they want, they can just email you and you’ll refund their money, no questions asked)</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carcity warning. Something like: “Before I tell you the reason... A quick warning: This video won’t be online for long, so make sure to watch it now as long as you can.”</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Give a reason why you give this guarantee (e.g. because your reputation means a lot to you)</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ve shown you that it works.</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You’ve seen some of the original emails that my successful students send me.</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nd I’ve also reversed the risk completely for you with my 100% money back guarantee.</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You can only win.</a:t>
            </a:r>
            <a:endParaRPr b="0" lang="en-US" sz="4200" spc="-1" strike="noStrike">
              <a:solidFill>
                <a:srgbClr val="000000"/>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1269720" y="114120"/>
            <a:ext cx="10464840" cy="7645320"/>
          </a:xfrm>
          <a:prstGeom prst="rect">
            <a:avLst/>
          </a:prstGeom>
          <a:noFill/>
          <a:ln w="0">
            <a:noFill/>
          </a:ln>
        </p:spPr>
        <p:txBody>
          <a:bodyPr lIns="50760" rIns="50760" tIns="50760" bIns="50760" anchor="ctr">
            <a:normAutofit/>
          </a:bodyPr>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100" spc="-1" strike="noStrike">
                <a:solidFill>
                  <a:srgbClr val="000000"/>
                </a:solidFill>
                <a:latin typeface="Gill Sans MT Bold"/>
                <a:ea typeface="Gill Sans MT Bold"/>
              </a:rPr>
              <a:t>Click the Orange</a:t>
            </a:r>
            <a:br>
              <a:rPr sz="7100"/>
            </a:br>
            <a:r>
              <a:rPr b="0" lang="en-US" sz="7100" spc="-1" strike="noStrike">
                <a:solidFill>
                  <a:srgbClr val="000000"/>
                </a:solidFill>
                <a:latin typeface="Gill Sans MT Bold"/>
                <a:ea typeface="Gill Sans MT Bold"/>
              </a:rPr>
              <a:t>Button Below!</a:t>
            </a:r>
            <a:endParaRPr b="0" lang="en-US" sz="7100" spc="-1" strike="noStrike">
              <a:solidFill>
                <a:srgbClr val="000000"/>
              </a:solidFill>
              <a:latin typeface="Gill Sans"/>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Gill Sans"/>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Gill Sans"/>
            </a:endParaRPr>
          </a:p>
        </p:txBody>
      </p:sp>
      <p:sp>
        <p:nvSpPr>
          <p:cNvPr id="561" name=""/>
          <p:cNvSpPr/>
          <p:nvPr/>
        </p:nvSpPr>
        <p:spPr>
          <a:xfrm flipH="1" rot="10800000">
            <a:off x="87840" y="2959200"/>
            <a:ext cx="12827160" cy="6146640"/>
          </a:xfrm>
          <a:prstGeom prst="pie">
            <a:avLst/>
          </a:prstGeom>
          <a:solidFill>
            <a:srgbClr val="ff560d"/>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Gill Sans"/>
              </a:rPr>
              <a:t>Scarcity: This chance might disappear anytime. Explain reason why over multiple slides (e.g. “these techniques work very well for me personally, and i don’t want them to become so commonplace that they lose their effectiveness... so I’ll probably censor them soon. If you want the uncensored version, you must act now”). </a:t>
            </a:r>
            <a:endParaRPr b="0" lang="en-US" sz="4100" spc="-1" strike="noStrike">
              <a:solidFill>
                <a:srgbClr val="000000"/>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more from the scarcity part of your mindmap (e.g. “you wouldn’t still be watching this video if you didn’t know that this is for you”, and future projection, “Where will you be 1 year from now if nothing changes... or 5 years... or 10?”)</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Life’s too short to miss opportunities.</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he button.</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1269720" y="114120"/>
            <a:ext cx="10464840" cy="7645320"/>
          </a:xfrm>
          <a:prstGeom prst="rect">
            <a:avLst/>
          </a:prstGeom>
          <a:noFill/>
          <a:ln w="0">
            <a:noFill/>
          </a:ln>
        </p:spPr>
        <p:txBody>
          <a:bodyPr lIns="50760" rIns="50760" tIns="50760" bIns="50760" anchor="ctr">
            <a:normAutofit/>
          </a:bodyPr>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100" spc="-1" strike="noStrike">
                <a:solidFill>
                  <a:srgbClr val="000000"/>
                </a:solidFill>
                <a:latin typeface="Gill Sans MT Bold"/>
                <a:ea typeface="Gill Sans MT Bold"/>
              </a:rPr>
              <a:t>Click the Orange Button Below!</a:t>
            </a:r>
            <a:endParaRPr b="0" lang="en-US" sz="7100" spc="-1" strike="noStrike">
              <a:solidFill>
                <a:srgbClr val="000000"/>
              </a:solidFill>
              <a:latin typeface="Gill Sans"/>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Gill Sans"/>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Gill Sans"/>
            </a:endParaRPr>
          </a:p>
        </p:txBody>
      </p:sp>
      <p:sp>
        <p:nvSpPr>
          <p:cNvPr id="566" name=""/>
          <p:cNvSpPr/>
          <p:nvPr/>
        </p:nvSpPr>
        <p:spPr>
          <a:xfrm flipH="1" rot="10800000">
            <a:off x="87840" y="2959200"/>
            <a:ext cx="12827160" cy="6146640"/>
          </a:xfrm>
          <a:prstGeom prst="pie">
            <a:avLst/>
          </a:prstGeom>
          <a:solidFill>
            <a:srgbClr val="ff560d"/>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ggravate the problem. Use to throw rocks at enemies, or evoke jealousy if appropriate (“those other guys are cheating and don’t really deserve it - you deserve success much more than they do”)</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Reasons why it only gets worse if you continue to do the same things you’ve always done)</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tart telling your story:</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You know how they feel. You’ve had the same problem. In fact, your situation was even worse than theirs. Still, you found light at the end of the tunnel, and you’re going to share it with them. Can go over multiple slides.</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t>
            </a:r>
            <a:r>
              <a:rPr b="0" lang="en-US" sz="4200" spc="-1" strike="noStrike">
                <a:solidFill>
                  <a:srgbClr val="000000"/>
                </a:solidFill>
                <a:latin typeface="Gill Sans"/>
              </a:rPr>
              <a:t>Here’s the good news” (announce that finally there’s a solution)</a:t>
            </a:r>
            <a:endParaRPr b="0" lang="en-US" sz="42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269720" y="838080"/>
            <a:ext cx="10464840" cy="76456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t>
            </a:r>
            <a:r>
              <a:rPr b="0" lang="en-US" sz="4200" spc="-1" strike="noStrike">
                <a:solidFill>
                  <a:srgbClr val="000000"/>
                </a:solidFill>
                <a:latin typeface="Gill Sans"/>
              </a:rPr>
              <a:t>I call this system...”</a:t>
            </a:r>
            <a:endParaRPr b="0" lang="en-US" sz="42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1269720" y="202680"/>
            <a:ext cx="10464840" cy="2413080"/>
          </a:xfrm>
          <a:prstGeom prst="rect">
            <a:avLst/>
          </a:prstGeom>
          <a:noFill/>
          <a:ln w="0">
            <a:noFill/>
          </a:ln>
        </p:spPr>
        <p:txBody>
          <a:bodyPr lIns="50760" rIns="50760" tIns="50760" bIns="50760"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MT Bold"/>
                <a:ea typeface="Gill Sans MT Bold"/>
              </a:rPr>
              <a:t>Here Goes The Product Title</a:t>
            </a:r>
            <a:endParaRPr b="0" lang="en-US" sz="4200" spc="-1" strike="noStrike">
              <a:solidFill>
                <a:srgbClr val="000000"/>
              </a:solidFill>
              <a:latin typeface="Gill Sans"/>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ea typeface="Gill Sans MT"/>
              </a:rPr>
              <a:t>Here Goes The Tagline</a:t>
            </a:r>
            <a:endParaRPr b="0" lang="en-US" sz="4000" spc="-1" strike="noStrike">
              <a:solidFill>
                <a:srgbClr val="000000"/>
              </a:solidFill>
              <a:latin typeface="Gill Sans"/>
            </a:endParaRPr>
          </a:p>
        </p:txBody>
      </p:sp>
      <p:pic>
        <p:nvPicPr>
          <p:cNvPr id="534" name="" descr=""/>
          <p:cNvPicPr/>
          <p:nvPr/>
        </p:nvPicPr>
        <p:blipFill>
          <a:blip r:embed="rId1"/>
          <a:stretch/>
        </p:blipFill>
        <p:spPr>
          <a:xfrm>
            <a:off x="3638520" y="2652840"/>
            <a:ext cx="5499000" cy="6567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onard Baumgardt</dc:creator>
  <dc:description/>
  <dc:language>en-US</dc:language>
  <cp:lastModifiedBy/>
  <cp:revision>0</cp:revision>
  <dc:subject/>
  <dc:title>1 Week Paycheck Template</dc:title>
</cp:coreProperties>
</file>